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87EB-0987-4716-9899-97FE6BCEF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D1DA-5DE5-4CA7-A238-41F87338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AB51-51D2-4DE6-B972-D32463A9D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DB16-FA8D-4E5C-AE66-757F9BFB0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FC2F-A3FC-435A-A082-654172D66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66B0-1D88-4812-BA52-36554B71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C0A4-9673-4E8E-AC81-18130281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CD3F-B426-4676-A76A-1F95B00C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8E30-4A11-45FB-8FDC-ACF38424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141F-6ADE-43AF-B1AD-BDB95B28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D1D9-6812-424B-A612-3E3BDA9B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420B-FDC1-4584-BD3A-A992D97D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CE58-3374-4DA4-9E43-989F241A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651A-965E-42ED-B900-2A5FD584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9EA3-574C-4D6A-9323-4D588D37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66C6-B560-48E0-8524-A922F7BB8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33AB-C0D9-4EC7-80CE-8C20A983E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BF3E-86B9-47CB-A5F1-73B45D20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367C-8727-4B24-BBEF-38E8150C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1F8B-9F4E-49CC-8B58-12AAF70D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DC69-DA78-49B0-B53E-D0FB7D5D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F760-2F37-4135-98CE-18813954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AC39-BA06-477B-8119-4EE0975B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FF3F-6B08-4E6D-9683-90A65B43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C1E7-1E87-4FBC-B3B8-E178B115C6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46E9-8474-4A36-B982-504056476C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0" y="0"/>
            <a:ext cx="9144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a Casa para la vent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0" y="6200640"/>
            <a:ext cx="4581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or: Jeannette Pellegrini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43400" cy="28954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343400" y="0"/>
            <a:ext cx="48006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casa grande es muy magnifico. La casa e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á localizada en Ashland. Está en la calle Bellview hights. Cuesa $270,003.02. La casa tiene cinco gran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tres pequeã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ormitorios. Tiene tres cocinas. Tienen un tostador, una licuadora, una nevera, un horno, y un fregadero. Tiene cuatro baños. Tienen una bañera, un retrete, un gabinete de medicana, un espejo, una ducha, un grifo, y un tapón.  La Sala es muy impresionate. La casa tiene cinco salas. Tienen una sofá, una silla, una lampera, un estane de libros, un cuadros, una cortinas, y un televisión. La casa tiene un comedor. El comedor tiene una mesa y un mantel magnífico. La Garage tiene dos caras. La casa tiene una piscina, y yarda gran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600200" y="2057400"/>
            <a:ext cx="57913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End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3:52:24Z</dcterms:created>
  <dc:creator>pellegrinijea</dc:creator>
  <dc:description/>
  <dc:language>en-US</dc:language>
  <cp:lastModifiedBy>pellegrinijea</cp:lastModifiedBy>
  <dcterms:modified xsi:type="dcterms:W3CDTF">2012-05-22T17:12:38Z</dcterms:modified>
  <cp:revision>8</cp:revision>
  <dc:subject/>
  <dc:title>Slide 1</dc:title>
</cp:coreProperties>
</file>